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AD1DD-0567-4650-97C6-F17BB333B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59B7F-F62A-4F6D-BF5C-0C262751C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F46A8-44C0-4800-86A7-E8E5CD815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FD815-B94C-40C1-B968-D72FE93D7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D298D-5DFE-4DC9-9B21-86317280F2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1B8AC-56CE-4E6E-A562-3F9A52E1D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2590A-934D-4017-AFAD-379541FC6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52FFC-D2EE-4044-9F6E-ACD9DC5B0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200C4-8A40-4425-94C2-CDBA099F7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19C48-9BB6-4C62-A085-F4C9039F1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2DE25-3D17-4DCE-A291-B6EC4CCB5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BE534-BF66-454D-BC5B-C8C7323B5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24156-BED9-4270-9EE8-39BAE1B0D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719B7-3C0A-40F7-AFCE-5256B0F81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6D553-6F80-4835-B993-8858AC424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71D2D-907E-415C-A1BF-D9EACDCBC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5946A-6DD0-4AA5-85D2-194494F6C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0B281-C4E6-4C83-87E8-9D213548C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AED7E-14A1-414C-881E-EB3730BCB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3FD16-4191-48DC-9DAC-295FE2DD0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A528F-F80C-4859-A3BC-5FA3100CD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37143-8E4B-4776-A818-9A1D8BD57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3AA0A-FCAB-4CBC-A3D9-405B2185D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1851D-7481-413A-B8F7-3C89E535C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BBD5-605F-4D3E-A819-C08DEAD98E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6F9D-1FE3-4104-88AF-6E9D66217C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www.cia.gov/library/publications/the-world-factbook/geos/ve.html" TargetMode="External"/><Relationship Id="rId2" Type="http://schemas.openxmlformats.org/officeDocument/2006/relationships/hyperlink" Target="http://www.answers.com/topic/hugo-ch-vez" TargetMode="External"/><Relationship Id="rId3" Type="http://schemas.openxmlformats.org/officeDocument/2006/relationships/hyperlink" Target="http://archive.newsmax.com/archives/articles/2001/7/3/141428.shtml"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eec94"/>
                </a:solidFill>
                <a:uFillTx/>
                <a:latin typeface="Times New Roman"/>
              </a:rPr>
              <a:t>Venezuelan Leftist Government</a:t>
            </a:r>
            <a:r>
              <a:rPr b="1" lang="en-US" sz="5400" spc="-1" strike="noStrike">
                <a:solidFill>
                  <a:srgbClr val="feec94"/>
                </a:solidFill>
                <a:latin typeface="Times New Roman"/>
              </a:rPr>
              <a:t> </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usten Horn, Ben Tobias, and Rob Haworth</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0" y="0"/>
            <a:ext cx="3048120" cy="2031840"/>
          </a:xfrm>
          <a:prstGeom prst="rect">
            <a:avLst/>
          </a:prstGeom>
          <a:ln w="0">
            <a:noFill/>
          </a:ln>
        </p:spPr>
      </p:pic>
      <p:pic>
        <p:nvPicPr>
          <p:cNvPr id="123" name="" descr=""/>
          <p:cNvPicPr/>
          <p:nvPr/>
        </p:nvPicPr>
        <p:blipFill>
          <a:blip r:embed="rId2"/>
          <a:stretch/>
        </p:blipFill>
        <p:spPr>
          <a:xfrm>
            <a:off x="5943600" y="4454640"/>
            <a:ext cx="3200400" cy="240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Venezuelan Government</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Federal Republi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Hugo Chavez, Vice President: Ramon Carrizalez, Cabinet: Council of Ministers appointed by the presiden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9 political parties and Hugo Chavez is a part of the United Socialist Party of Venezuela or PSUV.</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Venezuelan Economy</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go Chavez controls all of Venezuela’s oil which accounts for more than 90% of their export earnin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go Chavez also controls all cement and steel companies along with petroleum, communications, and electricity s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employment rate is 8.5%.</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ugo Chavez</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rn: July 28, 1954 in Sabaneta, Venezuel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ed president in 1998.</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92 Hugo Chavez tried to overthrow the president Carlos Perez and was put in prison for two years and was pardoned by president Rafael Caldera and when out of prison he gained popularity and was elected president as a leftist reform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blems in Venezuela</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ce Hugo Chavez has taken office crime rate has jumped an astounding 80%.</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the unemployment rate has risen to 13% since Hugo Chavez has taken offic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ution to Venezuelan Problems</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tations</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https://www.cia.gov/library/publications/the-world-factbook/geos/ve.htm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rPr>
              <a:t>http://www.answers.com/topic/hugo-ch-vez</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3"/>
              </a:rPr>
              <a:t>http://archive.newsmax.com/archives/articles/2001/7/3/141428.shtm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15:32:30Z</dcterms:created>
  <dc:creator>ws12087</dc:creator>
  <dc:description/>
  <dc:language>en-US</dc:language>
  <cp:lastModifiedBy>ws12087</cp:lastModifiedBy>
  <dcterms:modified xsi:type="dcterms:W3CDTF">2009-05-08T15:38:02Z</dcterms:modified>
  <cp:revision>4</cp:revision>
  <dc:subject/>
  <dc:title>Venezuelan Leftist Government </dc:title>
</cp:coreProperties>
</file>